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1DDD-1ADC-490A-83D9-1D74BF02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90E6-80F3-4455-AD19-16F63F14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26F0-BABF-426B-887A-EE72661C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4711-7CF5-4012-B6F4-D5C7BE06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53906-02D3-4921-8B6B-8F1CDC6AD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1AA3-014B-4072-ACBA-82D31194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5F31-7301-47FC-84DF-1F976407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711D8-3593-4C86-806D-E4E614DB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D8F3-E574-45BF-9296-43DF2365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6794-AD6D-47E0-B91B-250128F30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31A1-8940-4310-B357-37255AE2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544B-595F-4108-936C-F86883F1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0CC5-8AC9-4F00-9994-D72C45A2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6A415-0C48-4214-AAB8-19388126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364C-096C-42E4-9FBB-13D8200B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9228-61B4-46DB-AEE4-7D285D12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56EC-B055-4413-8BA7-CF49EF2B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BD512-D611-4E72-AE33-D1FC07B3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7B754-1A52-40FD-81CE-994B3EDC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B6176-FE52-4811-825B-88E41EC5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EF226-8039-4E97-9881-09D9D14A6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D0815-91AD-4A55-BA39-180CE3A9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F01B-AE28-4C4A-A0F0-41C5AFC2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4E98B-AEF4-4CAD-ADA4-C8F8A307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0FCE1-6FE1-41BC-B9D5-1EFB3C87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69EDF-EE74-4692-B672-600D6336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E0856-C093-4BC1-998A-90250E99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CD012-A762-4E80-A953-B139F4FE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D2D24-85F3-446E-BCAD-C729969A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A25FA-92A3-4177-9741-CF40C10D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EEBF-74CB-450E-AAFD-F69E61A8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4B7F-E709-46B7-97A9-078298EC6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23AE-9331-4038-ACBB-CEF6B385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31D-EE0D-4CC2-BE8E-9D77DB9C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7334-D7E9-4D35-B67E-AB212BC4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655F-B0F8-40F7-8B97-D27625A4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B8F1-0519-4094-A5FA-A15C00453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2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22D1-DA04-4AE6-B6AA-03F2F4C895E9}" type="slidenum">
              <a:rPr b="0" lang="de-DE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6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9D31-E239-4491-BC96-B176EC39B559}" type="slidenum">
              <a:rPr b="0" lang="de-DE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Essy0y7v6I" TargetMode="External"/><Relationship Id="rId2" Type="http://schemas.openxmlformats.org/officeDocument/2006/relationships/hyperlink" Target="http://www.youtube.com/watch?v=REssy0y7v6I" TargetMode="External"/><Relationship Id="rId3" Type="http://schemas.openxmlformats.org/officeDocument/2006/relationships/hyperlink" Target="http://www.youtube.com/watch?v=REssy0y7v6I" TargetMode="External"/><Relationship Id="rId4" Type="http://schemas.openxmlformats.org/officeDocument/2006/relationships/hyperlink" Target="http://www.youtube.com/watch?v=REssy0y7v6I" TargetMode="External"/><Relationship Id="rId5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55164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 u="sng">
                <a:solidFill>
                  <a:srgbClr val="000000"/>
                </a:solidFill>
                <a:uFillTx/>
                <a:latin typeface="Bradley Hand ITC"/>
              </a:rPr>
              <a:t>Turke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radi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they fast 1 month </a:t>
            </a: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Ramaz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They celebrate a ‘‘sugarparty‘‘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067280" y="3141720"/>
            <a:ext cx="3695760" cy="27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Tahoma"/>
              </a:rPr>
              <a:t>Typical Custo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the blue ey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symbol for protec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651640" y="2205000"/>
            <a:ext cx="3073320" cy="30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cc"/>
                </a:solidFill>
                <a:latin typeface="Tahoma"/>
              </a:rPr>
              <a:t>Behaviour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very pol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very hospitable ‘‘you come as a foreigner and leave as a friend‘‘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they treat each other respectful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usic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traditional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classic </a:t>
            </a:r>
            <a:r>
              <a:rPr b="0" lang="de-DE" sz="28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</a:t>
            </a:r>
            <a:r>
              <a:rPr b="0" lang="de-DE" sz="2800" spc="-1" strike="noStrike" u="sng">
                <a:solidFill>
                  <a:srgbClr val="ffcc66"/>
                </a:solidFill>
                <a:uFillTx/>
                <a:latin typeface="Tahoma"/>
                <a:hlinkClick r:id="rId2"/>
              </a:rPr>
              <a:t>www.youtube.com</a:t>
            </a:r>
            <a:r>
              <a:rPr b="0" lang="de-DE" sz="2800" spc="-1" strike="noStrike" u="sng">
                <a:solidFill>
                  <a:srgbClr val="ffcc66"/>
                </a:solidFill>
                <a:uFillTx/>
                <a:latin typeface="Tahoma"/>
                <a:hlinkClick r:id="rId3"/>
              </a:rPr>
              <a:t>/watch?v=REssy0y7v6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pop &amp; roc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hip-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language: Turk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http://www.youtube.com/watch?v=vRsyyBFcHYQ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1177200" y="5661000"/>
            <a:ext cx="52556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cc66"/>
                </a:solidFill>
                <a:uFillTx/>
                <a:latin typeface="Verdana"/>
                <a:hlinkClick r:id="rId4"/>
              </a:rPr>
              <a:t>http://www.youtube.com/watch?v=REssy0y7v6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Food &amp; Drink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2592360" cy="2027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093080" y="1268280"/>
            <a:ext cx="1768320" cy="2808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3348000" y="1557360"/>
            <a:ext cx="2716200" cy="1882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3780000" y="4941720"/>
            <a:ext cx="2039760" cy="1530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6804000" y="4437000"/>
            <a:ext cx="2136960" cy="21369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826920" y="4581360"/>
            <a:ext cx="2006640" cy="20764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24000" y="1700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do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96360" y="981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R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96000" y="649116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apple t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0" y="4437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lok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595008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sigara böre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3640" y="3429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Verdana"/>
              </a:rPr>
              <a:t>bakl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7:37:08Z</dcterms:created>
  <dc:creator>G.08.Haug.Sabrina</dc:creator>
  <dc:description/>
  <dc:language>en-US</dc:language>
  <cp:lastModifiedBy>g.08.haug.sabrina</cp:lastModifiedBy>
  <dcterms:modified xsi:type="dcterms:W3CDTF">2010-01-25T12:24:54Z</dcterms:modified>
  <cp:revision>9</cp:revision>
  <dc:subject/>
  <dc:title>Turkey</dc:title>
</cp:coreProperties>
</file>